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805C-BFC6-47D0-BEB9-0C2CF3617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6722-10AD-4D5A-A691-CEBBB87B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41A9-E141-4AE7-B996-25F7BD984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CDD3-4BFA-4AC7-A5A0-461938DDD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93B6-0F97-495A-A3C0-A11744F7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BBCF-E1E0-49BE-8B79-4366B042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A480-2662-43AF-A669-47B35338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9573-24A0-4FEC-BA20-0713473C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EFFA-9B53-4901-BE80-4EACDFE5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57D8-0FD4-4028-84F4-14DBF4E0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1D48-0D02-4539-999B-80AA0BF6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C5F4-6DCC-464F-AEA8-5C57F92E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7C91-A45F-4C7A-9A58-B804D65B544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H.323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OL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835360" y="1371600"/>
            <a:ext cx="898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Kill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337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2133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5486400" y="15238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30481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mm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3886200"/>
            <a:ext cx="1295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8620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80952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676520" y="2209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47712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8006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004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124080" y="23619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123720" y="266688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12408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990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162920" y="121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76160" y="10666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46483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5257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292560" y="45720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292560" y="51814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530440" y="5334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334120" y="4419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92360" y="4419720"/>
            <a:ext cx="36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2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692360" y="5029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6019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34120" y="571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76520" y="5715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57200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58672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5943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228600"/>
            <a:ext cx="3810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– ESC, OLC Tim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1905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253044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1600200"/>
            <a:ext cx="1143000" cy="7621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19051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19051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3657600"/>
            <a:ext cx="1203120" cy="15228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ven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251460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251460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Ses =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76520" y="28954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57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523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36576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ut O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43434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44956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51055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28954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676160" y="518148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676520" y="46483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3680" y="4334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37400" y="890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109680" y="13478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075680" y="188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18520" y="18813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Gatekeep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50600" y="1881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p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679440" y="18813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sWai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615200" y="23623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Endpo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888440" y="27669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21960" y="322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466160" y="3757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Mak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08640" y="40622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Clo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461120" y="44434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31400" y="2313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07720" y="2719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44840" y="31240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105200" y="35352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312640" y="23893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95144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68840" y="548496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795200" y="59436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715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6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14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6002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600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523880"/>
            <a:ext cx="2819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52120" y="1523880"/>
            <a:ext cx="12956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440" y="21337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9625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14640" y="4267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609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95480" y="16002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600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2209680"/>
            <a:ext cx="129564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33720" y="3428640"/>
            <a:ext cx="2361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83808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83808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83808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0574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337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Y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4479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133720"/>
            <a:ext cx="1067040" cy="228600"/>
          </a:xfrm>
          <a:prstGeom prst="hexagon">
            <a:avLst>
              <a:gd name="adj" fmla="val 3457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81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124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276720"/>
            <a:ext cx="1067040" cy="152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3048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943600" y="35812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562360" y="304776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47800" y="4267080"/>
            <a:ext cx="1371600" cy="152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6019920"/>
            <a:ext cx="10666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41008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61722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410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866920" y="6476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5486040" y="594324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048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62485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943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85440" y="4495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27880" y="45720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5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285640" y="6095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1981080" y="6324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05040" y="52956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23520" y="914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2840" y="914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914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72000" y="914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81680" y="1142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86400" y="1143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124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8686800" y="3124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10480" y="5638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2000" y="6553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952880" y="601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52880" y="32767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552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6576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124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4960" y="6324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17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47560" y="640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952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62320" y="1066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523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523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23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2742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720" y="6629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6476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280" y="42670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90360" y="31240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8380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8380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838080"/>
            <a:ext cx="1524240" cy="228600"/>
          </a:xfrm>
          <a:prstGeom prst="hexagon">
            <a:avLst>
              <a:gd name="adj" fmla="val 4939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00200" y="914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520" y="9144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232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096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362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Ma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209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619440" y="1561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2590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1752480"/>
            <a:ext cx="914400" cy="38124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666880"/>
            <a:ext cx="3808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80988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533412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5791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40384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5638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3809880" y="58672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876920"/>
            <a:ext cx="9144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2670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0292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FACIL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3526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0876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52280" y="434304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8288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267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686120" y="499032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067360" y="4990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579132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2057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32412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629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114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905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162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1629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81080" y="48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4800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76720" y="358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720" y="3581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28600"/>
            <a:ext cx="1905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H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82880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36232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990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17524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19810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9907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676520"/>
            <a:ext cx="1676520" cy="228600"/>
          </a:xfrm>
          <a:prstGeom prst="hexagon">
            <a:avLst>
              <a:gd name="adj" fmla="val 54325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3623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0384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800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9528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2670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0292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1911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Session = FAL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02920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xce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4864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66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1066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447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160" y="5867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3434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343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66688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066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1828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9920" y="106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609480"/>
            <a:ext cx="746748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886200"/>
            <a:ext cx="3657600" cy="838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876920"/>
            <a:ext cx="3657600" cy="137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3886200"/>
            <a:ext cx="3429000" cy="2362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4102560" y="408924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411120" y="56228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854960" y="5851440"/>
            <a:ext cx="280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정상적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ocket Clos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etDem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미 처리될 것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C245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discharge H.24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68580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600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9144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ke Q9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16765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10666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5146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lude H.245 Control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Q931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51460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h.245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1911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4495680"/>
            <a:ext cx="6858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5029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495680"/>
            <a:ext cx="1371600" cy="152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029200"/>
            <a:ext cx="1295280" cy="152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5812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181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066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1143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7913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386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41972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1143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1371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010280" y="1143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276720" y="3657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6720" y="5257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32004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T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7339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4495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51055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34996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978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807160" y="23623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recv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35560" y="304812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425920" y="9144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3292560" y="36576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292560" y="44197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510552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42069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55785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7102440" y="5029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687384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3063960" y="23623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481644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641664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733104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959440" y="1142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92000" y="99072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331040" y="99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264000" y="990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80168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691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31040" y="1219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44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2736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0204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692360" y="2514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2116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81644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21160" y="2590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260676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530440" y="4572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825720" y="3504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92360" y="3505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825720" y="426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92360" y="4267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260676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39020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52736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664524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474012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92360" y="59436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035760" y="5334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739760" y="5791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763596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035400" y="5562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MS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692360" y="2895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692360" y="3962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8006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3292560" y="281952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3292560" y="388620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48006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260676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2530440" y="4038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82572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692360" y="2666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257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92360" y="37339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260676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390204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152388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termin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152388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676160" y="19810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420696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mpar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47242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676520" y="563868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24280" y="5486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172200" y="5334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5-10-21T12:58:17Z</dcterms:modified>
  <cp:revision>23</cp:revision>
  <dc:subject/>
  <dc:title>PowerPoint 프레젠테이션</dc:title>
</cp:coreProperties>
</file>